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15D1-F495-48B7-910B-1206677D9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CBB6-0C9C-4683-87C6-9EBB9089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E01E-8644-4F53-9A8E-8CD4E1F9E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676F-A20B-4CB0-AF74-92B20AC3D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A720-941A-4085-AC7B-B536ACE4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2A26-D080-4747-ACF6-958AC8E3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998C-E783-4C92-AD9B-4638153D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9BF9-3510-4757-B0A8-4A859732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6F3D-5B05-4092-8D4A-805BE60E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47CA-AA3A-44AE-ADA7-A39EF9EC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BF5F-BE4D-41F2-904A-A84776B0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5963-7535-479B-9B84-C2C5CBE6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ACCA-EF7D-404E-B452-A5852377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93E7-1E0F-4AD9-B11B-3FCECA49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31C5-942F-43B7-92FA-BF435988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EC18-E4BF-443E-92A4-5D5C71A3C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C792-AAF6-496C-8CAC-B8A524673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182C0-7F0F-4935-967F-AC52015E9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98A25-5847-46D1-90CD-F3041CFD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670D7-398C-4A34-9705-D8BA1880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38B80-45F8-4498-8AFE-BF43C401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1B94A-DBC2-4A17-9296-DACD71E2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EB45-D6B5-425C-B69A-AF8632D1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0666B-6C8B-44EE-A47E-A6D472B6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F6341-92F2-4A2F-95C9-B9843654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42EE7-AAA4-433F-860F-50CCDC10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73502-EA8E-4AD6-BA9F-1EEC0DEA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30867-FB87-4B1D-912F-83FA91E5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4E72E-8D82-42A4-865E-E7412D29C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71EA8-B929-4FEC-907D-DB6975D13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002C7-C689-4948-AB72-C541BB14F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50B24-7B31-47E9-A0F7-DAA60A89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BF526-8952-4316-9FD2-05334C6A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2845-EBF7-4FF6-A26E-D2760656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320BE-C962-4B53-A5E1-44099B1B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B893B-512F-42E7-8532-EFECF039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9E914-2D35-4B94-A820-DF17086D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A4294-BB9A-49A0-9F4C-849C7C8C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FB965-1CC1-4902-8978-FEDC1F8C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E0B5F-BAC9-4C86-8286-737BCBD3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6C88C-24B3-4637-B7FD-44DFE435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FA76C-C2DA-49D5-9F27-63DDB2C17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EE0B6-D916-49DD-B9EF-FD61ED6ED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924E1-8310-423E-9D47-C672D8406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D24C-62E5-4485-AAA0-FE423548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30C75-7169-4DC3-9946-98A37352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3A4AA-2385-44E6-B876-6E2860EB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C0C02-0749-4F05-A627-66573ABB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E641E-0896-4EE7-8F32-0F3F5C00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E9174-5AEB-445F-B70A-DE0D71A9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06353-103E-4E08-B4F7-FB715460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D02FD-0BF8-4EF0-B791-AC5CBDDD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3FB81-ED54-460C-85AF-70A20708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EA51A-CE71-47C3-A977-C9A94958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3E31E-1667-4DF4-B1FA-14BC1B6E2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9EDB-7364-4628-A886-79A72118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596DB-E12F-4511-81F3-9AD3A62D9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DEE84-ED32-47C9-BF47-BFFB49B48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0077B-ED9C-44E2-8ED5-0AED3964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C4F20-9939-4BB0-83A5-1ED46985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67A03-33AE-4D20-9CF6-0B63C7AB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DF2B3-CDC7-437B-865E-65FCBFAF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95056-B0AE-48DB-AC39-FDBAE84E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822E7-479A-4EBE-9C30-A2BAAF44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CEEDD-92C0-4EFB-A37A-E75F501B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AA2BE-DB83-4587-947F-A7BF9CAD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6D26-FB3C-464A-B517-1A0AFFBB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E2A07-62E6-4FF0-8263-7BA08E92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20819-BE27-4C84-A8A5-605644E9B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FF6C4-36C0-43E4-A672-E242CB834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8162-BDDF-463E-8D09-599170FE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C87D-7C00-484F-8791-7B446CC3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68F3-D7C1-46B9-9D44-EA49959C75F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0A64-E89B-4A92-9E7A-6E09A01A81E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EA30-990E-4D5C-B28D-309F4D079B7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72ED-4447-4F57-83F3-0EF84E6E20A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8A29-3C41-435E-A668-D13C432E779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E5D7-5413-4775-8583-B444A5DCBA5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n Klein and Danielle Mackinto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ultiplier Analysis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 increase in spending will bring about an even bigger increase in EGD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find the multiplie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DP/∆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number tells us, for every $1 increase in spending, how much of an increase in EGDP we will g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Oversimplified Multiplier Formula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 / (1 – MPC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PC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ope of consumption 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/∆DI = ∆C/∆RGDP (when I, G, X-IM are consta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ultiplier effect takes place whenever there’s a change in spending at all levels of GDP; it doesn’t matter which component of AD we’re using: C,G,I, or (X-IM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Induced vs. Autonomous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0402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a0b0"/>
                </a:solidFill>
                <a:latin typeface="Arial"/>
              </a:rPr>
              <a:t>Induc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23920" y="144792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a0b0"/>
                </a:solidFill>
                <a:latin typeface="Arial"/>
              </a:rPr>
              <a:t>Autonom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236196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s in C that are caused by changes in GD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llustrated by movement along expenditure sched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multiplier eff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47960" y="228564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hanges in C that aren’t caused by changes in RGD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uses: increase of wealth, price level changes, future expecta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 changes at all levels of RGD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uses shift of expenditure schedule and changes in EGD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as a multiplier effec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aradox of Thrift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e decide to save more at every level of GD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e are spending less, which causes a multiplied decrease in EGDP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reduces disposable income, giving us less to save (or spend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our attempt to increase savings, we have reduced our ability to sa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Lowering the Value of the Multiplier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conomy grows, enabling us to spend mo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DP increases, DI increases, C increas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me of that spending will be on foreign goo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s we spend more on foreign goods, we spend a little less on our 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ur GDP will not rise as much as expected with the oversimplified multiplier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ariable net exports lower the value of the multiplier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kes expenditure schedule flat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2:35:17Z</dcterms:created>
  <dc:creator>Danielle Mackintosh</dc:creator>
  <dc:description/>
  <dc:language>en-US</dc:language>
  <cp:lastModifiedBy>HP Authorized Customer</cp:lastModifiedBy>
  <dcterms:modified xsi:type="dcterms:W3CDTF">2009-01-27T21:49:02Z</dcterms:modified>
  <cp:revision>5</cp:revision>
  <dc:subject/>
  <dc:title>Unit 4: Chapter 27</dc:title>
</cp:coreProperties>
</file>